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B658-E1F6-431E-ACAA-D4655BF4FDFD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DA97-8B10-4412-9BA0-39D4E9C46E8F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789E-36C1-4DED-B721-14DB23C63D19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01EC-D9FD-4864-B9C9-55172A4516CC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185040" y="299880"/>
            <a:ext cx="738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Responsible Data Use; Presented 6 Dec 2011, AGU Data Management 101 for the Earth Scientist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iki.esipfed.org/index.php/Data_Management_Course_Outline" TargetMode="External"/><Relationship Id="rId3" Type="http://schemas.openxmlformats.org/officeDocument/2006/relationships/hyperlink" Target="http://wiki.esipfed.org/index.php/Data_Management_Resources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sidc.org/data/mod10a1v5.html" TargetMode="External"/><Relationship Id="rId2" Type="http://schemas.openxmlformats.org/officeDocument/2006/relationships/hyperlink" Target="http://nsidc.org/data/g02199.html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Responsible Data Use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(or what should you do if you find yourself re-using someone else’s data)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uth Duer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provide feedback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event other users from repeating your mistake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Improve the data or their documentation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etter science, perhaps even new results, papers, and collaborator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 few words about providing feedback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Feedback to a PI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Your reasons for using someone else’s data are likely different than their reasons for acquiring it in the first place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So, they probably weren’t thinking of your needs when they acquired, documented and made it available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Yet, if they thought their data would be useful to a community they probably would be flattered to help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iplomacy and tact may be called for (especially if you really think you’ve found an error not just a documentation problem)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Feedback to a data center is almost always welcom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68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olar Information Commons ethics and norms for data sharing at http://www.polarcommons.org/ethics-and-norms-of-data-sharing.ph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management training materials in development are available at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wiki.esipfed.org/index.php/Data_Management_Course_Outlin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short list of data management related resources available on the web can be found at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iki.esipfed.org/index.php/Data_Management_Resour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Your Responsibilities as a Data User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645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termining the suitability of data for your purpos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llowing applicable data access and use polici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Giving credit to archives and data creato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viding the data source with feedback about any errors or limitations with the data discover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558720" y="3200040"/>
            <a:ext cx="11646000" cy="426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Just because it is “good” data, doesn’t mean that it is right for your project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rolla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Just because it isn’t right for your project, doesn’t mean that it is “bad” data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482760" y="1752480"/>
            <a:ext cx="1211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8" name="Picture 3" descr=""/>
          <p:cNvPicPr/>
          <p:nvPr/>
        </p:nvPicPr>
        <p:blipFill>
          <a:blip r:embed="rId1"/>
          <a:stretch/>
        </p:blipFill>
        <p:spPr>
          <a:xfrm>
            <a:off x="2463840" y="109440"/>
            <a:ext cx="8077320" cy="961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ints for Determining Data Suitability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71320" y="2323800"/>
            <a:ext cx="11645640" cy="704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ad any papers, documentation and metadata provided – it is there for a reason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nsidc.org/data/mod10a1v5.html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for an example of a fairly well documented data se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f you still have questions, assess support availability and if acceptable ask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nsidc.org/data/g02199.html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for an example of a poorly documented data set with an extremely low level of available suppor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e aware that due to documentation and support limitations, the best data for your purposes may not be available to or usable by you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1" name="Picture 3" descr="MOD10A1.tiff"/>
          <p:cNvPicPr/>
          <p:nvPr/>
        </p:nvPicPr>
        <p:blipFill>
          <a:blip r:embed="rId3"/>
          <a:stretch/>
        </p:blipFill>
        <p:spPr>
          <a:xfrm>
            <a:off x="635040" y="0"/>
            <a:ext cx="11923560" cy="969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2" name="Picture 4" descr="DustCounts.tiff"/>
          <p:cNvPicPr/>
          <p:nvPr/>
        </p:nvPicPr>
        <p:blipFill>
          <a:blip r:embed="rId4"/>
          <a:stretch/>
        </p:blipFill>
        <p:spPr>
          <a:xfrm>
            <a:off x="482760" y="0"/>
            <a:ext cx="11999880" cy="975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 few words about data access and use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Content Placeholder 2"/>
          <p:cNvSpPr/>
          <p:nvPr/>
        </p:nvSpPr>
        <p:spPr>
          <a:xfrm>
            <a:off x="558720" y="2286000"/>
            <a:ext cx="11646000" cy="65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e trend in many disciplines is towards greater data sharing, but…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orms vary by discipline (and country), for example you may need to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Submit an application for access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Sign a data transfer and usage agreement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ravel to the repository to obtain access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Moreover there are legitimate reasons for restricting access, for example: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o protect the confidentiality of human subjects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o protect the rights of local and traditional knowledge holders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o protect information that if released may cause harm (e.g., location of endangered species, sacred sites, etc.)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  <a:ea typeface="ヒラギノ角ゴ ProN W3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t is your responsibility to understand and follow the norms for the data your are using.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TextBox 1"/>
          <p:cNvSpPr/>
          <p:nvPr/>
        </p:nvSpPr>
        <p:spPr>
          <a:xfrm>
            <a:off x="605160" y="9296280"/>
            <a:ext cx="65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Helvetica Neue Light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Helvetica Neue Light"/>
              </a:rPr>
              <a:t> see IPY Data Policy at 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classic.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ipy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.org/Subcommittees/final_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ipy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_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data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_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policy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.pdf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635040" y="2438280"/>
            <a:ext cx="117982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Would you really share your work if you thought others not going to give you credit?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So cite the data you use!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482760" y="1752480"/>
            <a:ext cx="1211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482400" y="2971440"/>
            <a:ext cx="11861640" cy="392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management funding is scarc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o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ite the data you use, so that they continue to be available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Citation – No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Currently data citation standards and requirements va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rom journal to journa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rom repository to repositor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rom discipline to disciplin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Some times from author to author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o your best to honor these existing norm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hat might a data citation look like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Zwally, H.J., R. Schutz, C. Bentley, J. Bufton, T. Herring, J. Minster, J. Spinhirne, and R. Thomas. 2003. </a:t>
            </a:r>
            <a:r>
              <a:rPr b="0" i="1" lang="en-US" sz="2800" spc="-1" strike="noStrike">
                <a:solidFill>
                  <a:srgbClr val="606060"/>
                </a:solidFill>
                <a:latin typeface="Helvetica Neue"/>
              </a:rPr>
              <a:t>GLAS/ICESat L1A Global Altimetry Data V018, 15 October to 18 November 2003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 National Snow and Ice Data Center. Data set accessed 2011-07-21 at doi:10.3334/NSIDC/gla01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Citation – In the Near Futur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taCite and other groups are working to make data citation a normal part of the scientific proces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or example, as of this year Thompson-Reuters Web of Science and Web of Knowledge include published data sets (i.e., that have a DOI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The ESIP Federation is working on citation guidelines for both data producers and data users.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See http://wiki.esipfed.org/index.php/Interagency_Data_Stewardship/Cit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7:48:58Z</dcterms:created>
  <dc:creator/>
  <dc:description/>
  <cp:keywords/>
  <dc:language>en-US</dc:language>
  <cp:lastModifiedBy>Carol Meyer</cp:lastModifiedBy>
  <dcterms:modified xsi:type="dcterms:W3CDTF">2011-12-06T03:06:04Z</dcterms:modified>
  <cp:revision>75</cp:revision>
  <dc:subject/>
  <dc:title>ESIP Federation 101</dc:title>
</cp:coreProperties>
</file>